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A12-04B5-4592-9C31-7726268D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EBC-38C0-48B8-9463-86447A9A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53F-130E-4F1C-8ADF-A06AA5F2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59E-754B-4D96-A65A-8966E047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E64-C4ED-4E71-B19B-B8E0E451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E593-21E6-4105-A769-F3CEB97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297-5C4B-4E5D-BA43-1A610AFC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F62-AD70-42F1-9251-BD2652B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C44-86A2-4C13-9FD3-4A570928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F194-1424-4147-B3E3-E68CD38E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B203-17C2-4272-96AC-86B136F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F6C-E127-4B18-99FE-9AA3EC2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3AB2-094B-4C74-B217-7230236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46B-715D-40A4-8EDD-17FA7AD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10D-8611-4C8F-8E76-3195BE7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92B8-BD73-4DBF-9FF6-8F717423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EF7-6AAF-4961-A493-09ED4D9F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504-6D66-4544-BDF0-A4511D69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23D-0EBA-4EB4-9D6A-2931CCB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765-8A9B-4633-A0D7-7AD3A7E6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C11-9CAB-47DC-BCF8-E38F913F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89D-D13A-4246-928C-DFE373B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B9D-7FC9-40A5-944F-E84BAF2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978-B7FE-42A8-9A40-4B2235A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DF9A-A55F-4B92-9903-867F576D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7B8-C958-4496-B137-197D8A666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pa.gse.rutgers.edu/whatweknow.pdf" TargetMode="External"/><Relationship Id="rId2" Type="http://schemas.openxmlformats.org/officeDocument/2006/relationships/hyperlink" Target="http://www.cepa.gse.rutgers.edu/whatweknow.pdf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62012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haracteristics of Successful Schools Based on Research!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6870960" cy="1371600"/>
          </a:xfrm>
          <a:prstGeom prst="rect">
            <a:avLst/>
          </a:prstGeom>
          <a:solidFill>
            <a:srgbClr val="703dff">
              <a:alpha val="4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ummary of 9 characteristic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rom: </a:t>
            </a: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hat we know about successful school leadership</a:t>
            </a: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2003). 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Administration American Education Research (AERA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00400" y="3049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. Jay Mari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ociate Superintendent for Organizational Effectiveness &amp; Account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instructional and administrative leadership is required to implement change process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leaders are proactive and seek help that is needed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lso nurture an instructional program and school culture conducive to learning and professional growth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leaders can have different styles and roles-teachers and other staff, including those in the district office, often have a leadership role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 Administrative Leaders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ilitate the development, articulation, implementation, and stewardship of a vision of learning that is shared and supported by the school communit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ocate, nurture, and sustain a school culture and instructional program conducive to student learning and staff professional growth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sure management of the organization, operations, and resources for a safe, efficient, and effective learning environ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aborate with families and community members, responding to diverse community interests and needs, and mobilizing community resourc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ilitate development and implementation of the school improvement plan with aligned professional development that supports vision and operational philosoph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251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eacher Lead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research-based instructional program models researched-based practic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del team learning approach with a focus on planning lessons, assessing students, and group problem solving. Mentor other teacher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port a safe, efficient, and effective learning environment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aborate with parents, families, and other community members involved in the student learning environment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 Student Lead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work to remove barriers to learning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role models (Partnership for Learning)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peer tutors (Partnership for Learning)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High Levels of Collaboration and Communication</a:t>
            </a:r>
            <a:endParaRPr b="1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strong teamwork among teachers                 across all grades and with other staff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body is involved and connected to each other, including parents and members of the community, to identify problems and work on solution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 and time for collaboration are determined and allocat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is highly involved in the school improvement effor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s for decision making, problem solving, and conflict resolution are commonly known, used, and evident in the school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hools and community members work togethe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hool teams reflect the diversity of the school communit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Curriculum, Instruction and Assessment Aligned with Standards</a:t>
            </a:r>
            <a:endParaRPr b="1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lanned and actual curriculum are aligned with the essential academic learning requiremen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earch-based teaching strategies and materials are u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understand the role of classroom and state assessments, what the assessments measure, and how student work is evaluat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riculum is aligned with state and local requiremen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opted curriculum materials and models are research ba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focused on high expectation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personalized and encompasses broad, concerted curriculum materials and models are research ba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Curriculum, Instruction and Assessment Aligned with Standards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personalized and encompasses broad, concerted systematic emphasis on motivation as well as knowledge and skill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modified based on student achievement data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is a clear link between student assessment and instructional activiti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directly involved in the assessment of their learning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teady cycle of different assessments identify students who needs help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support and instruction time is provided, either during the school day or outside normal school hours, to students who need more help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is adjusted based on frequent monitoring of student progress and need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ment results are used to focus and improve instructional program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Monitoring of Teaching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modify classroom practice based on student achievement data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room assessment is aligned with the curriculum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ten/adopted curriculum is taught and assessments used to identify needs. Instruction is then aligned to need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enced teachers are paired to mentor less-experienced teacher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incipal is in the classroom often to evaluate implementation of best practice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ing and learning are the major focus areas of the staff supervision and evaluation proces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adequate time for reflection and review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455840" indent="-207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/schools implement a record-keeping system for student achievement data to assist with short- and long-range planning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455840" indent="-207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allocate a significant amount of time to instruction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Monitoring of Student Learning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als for achievable education outcomes are clear and explicit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have been trained and use classroom-based assessment to make instructional decision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 progress and areas for improvement are shared regularly with parent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cific test results are closely analyzed to guide improvement efforts. Students who are in need of extra help are identifi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e assessments are used to measure student progress (WEA/NEA). Instructional materials are selected based on quality and appropriateness to student needs (WEA/NEA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ery student has a strong personal relationship with at least one adult in the school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s are engaged in active participation, exploration, and research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04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Successful Schools Research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coming a high-performing school takes many years of hard work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is no silver bullet - no single thing a school can do to ensure high student performance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earch has found that high-performing schools have a number of common characteristic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chool may be doing well in some areas but need help in oth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ocused Professional Develop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trong emphasis is placed on training staff in areas of most need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edback from learning and teaching focuses extensive and ongoing professional developmen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upport is also aligned with the school or district vision and objective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Focused Professional Development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is based on a needs assessment and sustained over tim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iberate decisions are made to ensure resources are allocated to maintain and sustain professional develop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ders have focused much of their time in planning, implementing and monitoring professional development activiti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engages all stakeholder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reflects the National Staff Development Council standard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models best practice instruction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variety of professional development offerings are customized and based on individual and organizational needs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Supportive Learning Environ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chool has a safe, civil, healthy and intellectually stimulating learning environmen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feel respected and connected with the staff and are engaged in learning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struction is personalized and small learning environments increase student contact with teacher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Supportive Learning Environ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s in student's bonding to school (opportunities, recognition, skills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warm and friendly atmospher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reduction in discipline referrals (number, severity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st scores are improving (norm and criterion-referenced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low staff turnove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nd teachers are listening to others; respectful and courteou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take personal responsibility for their learning and behavio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student is supported by an adult advocat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High Level of Parent and Community Involvemen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is a sense that all have a responsibility to educate students, not just the teachers and staff in school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ents, businesses, social service agencies, and community colleges/universities all play a vital role in this effor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High Level of Parent and Community Involve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nd community members have an active voice and involvement in the school improvement proces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ff understands the importance of parent and community involvement in the school and creates opportunities for their involvement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ff creates and uses business partnerships to expand the curricula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re assisted with understanding child and adolescent development and child-rearing skill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nd community members are recruited, trained. and provided a variety of volunteer activitie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frequent and ongoing communication using a variety of means (e.g., newsletters, meetings, conferences, electronic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erse opportunities exist for parent involvement (e.g., committees, volunteering, monitoring homework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high degree of parent participation and involvement are noted at open houses, PTA events, and other school activitie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dff"/>
                </a:solidFill>
                <a:latin typeface="Comic Sans MS"/>
              </a:rPr>
              <a:t>Online Resource</a:t>
            </a:r>
            <a:br>
              <a:rPr sz="60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ith Supporting Links…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ttp://www.k12.wa.us/SchoolImprovement/success.aspx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Bibliography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arth, R. S. (1990). Improving Schools from Within: Teachers, Parents, and Principals Can Make the Difference. San Francisco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lase, J. and Kirby, P. C. (1992). Bringing Out the Best in Teachers: What Effective Principals Do. Newbury Park, CA: Corwin Press Inc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tton, K. (1995). Research You Can Use to Improve Results. Alexandria, VA: Association for Supervision and Curriculum Development and Portland, OR: Northwest Regional Educational Laboratory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uFour, R. and Eaker, R. (1998). Professional Learning Communities at Work: Best Practices for Enhancing Student Achievement. Bloomington, IN: National Educational Service and Alexandria, VA: Association for Supervision and Curriculum Development (ASCD)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lickman, C. D. (1993). Renewing America's Schools: A Guide for School-Based Action. San Francisco, CA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lcomb, E. L. (2001). Asking the Right Questions: Techniques for Collaboration and School Change. Thousand Oaks, CA: Corwin Pres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rzano, R. J., Pickering, D. J., and Pollock, J. E. (2001). Classroom Instruction that Works: Research-Based Strategies For Increasing Student Achievement. Alexandria, VA.: ASCD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mann, F. M. and Associates. (1996). Authentic Achievement: Restructuring Schools for Intellectual Quality. San Francisco, CA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chlechty, P. C. (2001). Shaking Up the School House: How to Support and Sustain Educational Innovation. San Francisco, CA: Jossey-Bas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chmoker, M. (1999). Results: The Key to Continuous School Improvement. (2nd ed.). Alexandria, VA: ASCD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ge, P., Cambron-McCabe, N., Lucas, T., Smith, B., Dutton, J., and Kleiner, A. (2000). Schools That Learn: A Fifth Discipline Fieldbook for Educators, Parents, and Everyone Who Cares about Education. New York: Currency / Doubleday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Zemelman, S., Daniels, H., and Hyde, A. (1998). Best Practice: New Standards for Teaching and Learning in America's Schools. (2nd ed.). Portsmouth, NH: Heinemann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Responses from Educators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9 Common Characteristics</a:t>
            </a:r>
            <a:br>
              <a:rPr sz="4400"/>
            </a:b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(Click to read more online)</a:t>
            </a:r>
            <a:endParaRPr b="1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ear and Shared Focu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Standards and Expectation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ffective School Leadership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Levels of Collaboration and Communicatio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riculum, Instruction and Assessment Aligned with Standard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 Monitoring of Teaching and Learning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ed Professional Development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portive Learning Environment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Levels of Community and Parent Involveme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Verdana"/>
              </a:rPr>
              <a:t>Clear and Shared Focus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erybody knows where they are going and wh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focus is on achieving a shared vision, and all understand their role in achieving the vi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focus and vision are developed from common beliefs and values, creating a consistent direction for all involved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556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Verdana"/>
              </a:rPr>
              <a:t>Clear and Shared Focus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INDICATORS: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participants can articulate the common purpos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use of time, materials, and professional development activities are aligned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rning goals are developed and prioritized according to district or building guideline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is a commitment to long-range, continuous improve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common focus is directly related to assignment of staff time and resource allocation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staff can articulate how the school is improving student learning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ff study test results and establish a plan to attack areas of weaknes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fessional development reflects the National Staff Development Council Standard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achers and staff believe that all students can learn and meet high standards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offered an ambitious and rigorous course of study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 that implements powerful teaching and learning strategies including action inquiry, in-depth learning, and performance assessment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 that implements powerful teaching and learning strategies including action inquiry, in-depth learning, and performance assessment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472040" indent="-21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ff is consistent and purposeful in cross-grade-level conversations that result in an alignment of the curriculum within and among the content area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457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High </a:t>
            </a: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Standards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 and Expectations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focuses on commonalities that cut across grades and subjec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clear link between student assessment and instructional activiti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 focus on competence, not coverag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aware of expectations, produce quality work, and present to real audiences (Gates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ectations connect to the real world, and students are role models and peer educators (Partnership for Learning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and students articulate their belief in their capacity for succes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personalized and encompasses a broad, concerted, and systematic emphasis on motivation as well as knowledge and skill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participants can articulate the common purpose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use of time, materials, and professional development activities are aligned with common focu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goals are developed and prioritized according to district or building guidelin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commitment to long-range, continuous improve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on focus is directly related to assignment of staff time and resource allocation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staff can articulate how the school is improving student learning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study test results and establish a plan to attack areas of weaknes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reflects the National Staff Development Council Standard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sustained emphasis on learning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5:17:04Z</dcterms:created>
  <dc:creator>jmarino</dc:creator>
  <dc:description/>
  <dc:language>en-US</dc:language>
  <cp:lastModifiedBy>Windows User</cp:lastModifiedBy>
  <dcterms:modified xsi:type="dcterms:W3CDTF">2011-03-10T18:18:22Z</dcterms:modified>
  <cp:revision>608</cp:revision>
  <dc:subject/>
  <dc:title>Slide 1</dc:title>
</cp:coreProperties>
</file>